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82C9-B977-4264-9EE6-089C7AD79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ECBD-5E45-485D-9261-7652F62B8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lhsc.on.ca/_images/Genetics/transcript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0362-8693-4FC6-A130-7940ED423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nature.com/scitable/topicpage/translation-dna-to-mrna-to-protein-393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DD51-7B93-4B41-BD21-7B69B9594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tokresource.org/tok_classes/biobiobio/biomenu/transcription_translation/index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9AE9-C1D9-4AB1-B74F-68DE0817B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0D1B-5D54-40F2-92F1-94E1DEC38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9D2D-47E1-49B9-84A2-590535356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3433-EAF6-457C-AA9A-051194472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en.wikipedia.org/wiki/File:5'_cap_structure.png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6F12-5DB6-4ED3-BFCA-F9088BF1D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ribonucleoprotein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urp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2748-3762-4165-B86F-C1D7B37D6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school.com/science/biology_place/biocoach/transcription/premrn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6D24-94F2-4993-A384-299FDE44B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2F10-7C30-4BA6-B064-8D97EFD34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ritannica.com/EBchecked/media/114928/Genes-are-made-up-of-promoter-regions-and-alternating-regions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DE05-0280-4AB9-94AD-960660F59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yperphysics.phy-astr.gsu.edu/hbase/organic/transcrip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C60B-9690-4D5F-9AF0-7B7808C6B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biology.arizona.edu/molecular_bio/problem_sets/mol_genetics_of_eukaryotes/01t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9A75-E543-4BCB-BAEB-712BED65B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037C-903E-4A8E-99E6-30C51FC1A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8050-82FB-453E-B1B5-B2628D0B6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andwalk.blogspot.com/2008/09/how-rna-polymerase-binds-to-dna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1821-BBD8-426D-891F-7A7468C2E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D912-C0C9-4103-A29E-C6AD2C3AB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dna-rna.net/2011/08/24/rna-transcription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988B-6343-4326-B86D-671B21F52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18C8-FE0F-40B3-B17F-D786AF801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tat.berkeley.edu/users/terry/Classes/s260.1998/Week12/week12/node5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4C59-0B4D-4CD6-BAB5-95B7CE0FB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935E-6983-499B-AA58-8355F167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4776-013C-414A-A792-FD943C06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96FE-9E9A-4637-9EE9-155166F8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BB71-3AA1-4948-8F6D-DBC18721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57FE-B7C6-4FB9-A58F-4079E6ED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A2E7-C5A4-4889-AD5A-9B00AD05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2B93-2F2E-4EE8-AA02-122284D3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310-8B85-4406-AE30-855F268A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B0F5-88FE-4CCB-9BB9-7B7034F0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AB1-A831-4581-B4F6-C9D38F7A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8715-9CB7-43C6-9A65-38E046B4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8C1D-8646-4EA5-A155-18EB4D4E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6FE1-8139-45A6-AA88-515E7B7FB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98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8c93"/>
                </a:solidFill>
                <a:latin typeface="Arial"/>
              </a:rPr>
              <a:t>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Tran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pierce_13_7_large_2"/>
          <p:cNvPicPr/>
          <p:nvPr/>
        </p:nvPicPr>
        <p:blipFill>
          <a:blip r:embed="rId1"/>
          <a:srcRect l="14519" t="0" r="14519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iption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10000000000001B1000000D9E9F2CFD4"/>
          <p:cNvPicPr/>
          <p:nvPr/>
        </p:nvPicPr>
        <p:blipFill>
          <a:blip r:embed="rId1"/>
          <a:stretch/>
        </p:blipFill>
        <p:spPr>
          <a:xfrm>
            <a:off x="685800" y="2090880"/>
            <a:ext cx="77724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 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animation &amp; qui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highered.mcgraw-hill.com/sites/0072507470/student_view0/chapter3/animation__mrna_synthesis__transcription___quiz_1_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y Basics” animations of transcription &amp; trans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wiley.com/college/test/0471787159/biology_basics/animations/fromGeneToProtein.sw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transcriptional Mod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-mR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 tran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karyo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 undergoes additional modifications before leaving th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 of Poly(A) 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200 adenine ribonucleotides are added to the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d by poly-A poly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(A) 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s from digestion in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 of 5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7-methyl guanosine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ttachment site for 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5'_cap_structure"/>
          <p:cNvPicPr/>
          <p:nvPr/>
        </p:nvPicPr>
        <p:blipFill>
          <a:blip r:embed="rId1"/>
          <a:stretch/>
        </p:blipFill>
        <p:spPr>
          <a:xfrm>
            <a:off x="4648320" y="2333520"/>
            <a:ext cx="380988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al of In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karyo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ome consists of coding region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non-coding region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-protein complexe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lice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mRNA +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nRN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remove introns and rejoin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ice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eusplice"/>
          <p:cNvPicPr/>
          <p:nvPr/>
        </p:nvPicPr>
        <p:blipFill>
          <a:blip r:embed="rId1"/>
          <a:stretch/>
        </p:blipFill>
        <p:spPr>
          <a:xfrm>
            <a:off x="1913040" y="1981080"/>
            <a:ext cx="5317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Spl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ns may be joined in different combinations to produce different but related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s how about 100 000 proteins can be produced from only around      20 000 genes in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much for 1 gene - 1 polypeptide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al of In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114896-004-A8EA44DE"/>
          <p:cNvPicPr/>
          <p:nvPr/>
        </p:nvPicPr>
        <p:blipFill>
          <a:blip r:embed="rId1"/>
          <a:stretch/>
        </p:blipFill>
        <p:spPr>
          <a:xfrm>
            <a:off x="2424240" y="1981080"/>
            <a:ext cx="429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where the DNA code is used to make a complementary mRNA st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transcbub3"/>
          <p:cNvPicPr/>
          <p:nvPr/>
        </p:nvPicPr>
        <p:blipFill>
          <a:blip r:embed="rId1"/>
          <a:stretch/>
        </p:blipFill>
        <p:spPr>
          <a:xfrm>
            <a:off x="2193840" y="3200400"/>
            <a:ext cx="4756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NA Tran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RNA is ready to leave the nucleus for translation and it is now call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RNA tran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01t"/>
          <p:cNvPicPr/>
          <p:nvPr/>
        </p:nvPicPr>
        <p:blipFill>
          <a:blip r:embed="rId1"/>
          <a:stretch/>
        </p:blipFill>
        <p:spPr>
          <a:xfrm>
            <a:off x="685800" y="3813120"/>
            <a:ext cx="77724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animation summarizing post-transcriptional mod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execulink.com/~ekimmel/mrna_flash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NA polymerase binds to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o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tmp"/>
          <p:cNvPicPr/>
          <p:nvPr/>
        </p:nvPicPr>
        <p:blipFill>
          <a:blip r:embed="rId1"/>
          <a:stretch/>
        </p:blipFill>
        <p:spPr>
          <a:xfrm>
            <a:off x="4906800" y="1981080"/>
            <a:ext cx="329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oter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stream of the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 site for RNA polymerase to bind to the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TA bo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 eukaryotes): high in adenine and thymine (less energy needed to break 2 H-bo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have TATAAT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NA polymerase opens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zes 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s ribonucleotides from 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rna-transcription2"/>
          <p:cNvPicPr/>
          <p:nvPr/>
        </p:nvPicPr>
        <p:blipFill>
          <a:blip r:embed="rId1"/>
          <a:stretch/>
        </p:blipFill>
        <p:spPr>
          <a:xfrm>
            <a:off x="4648320" y="2092320"/>
            <a:ext cx="38098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late str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NA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make the complementary mRNA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ing str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DNA has the same sequence as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 stops at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 sequ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mRNA is rel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img5"/>
          <p:cNvPicPr/>
          <p:nvPr/>
        </p:nvPicPr>
        <p:blipFill>
          <a:blip r:embed="rId1"/>
          <a:stretch/>
        </p:blipFill>
        <p:spPr>
          <a:xfrm>
            <a:off x="4648320" y="2021040"/>
            <a:ext cx="38098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tion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binding to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forms hairpin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uracil site on mRNA binds to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0:33:12Z</dcterms:created>
  <dc:creator>rubina khan</dc:creator>
  <dc:description/>
  <dc:language>en-US</dc:language>
  <cp:lastModifiedBy>rubina khan</cp:lastModifiedBy>
  <dcterms:modified xsi:type="dcterms:W3CDTF">2017-03-29T14:01:03Z</dcterms:modified>
  <cp:revision>162</cp:revision>
  <dc:subject/>
  <dc:title>Molecular Genetics</dc:title>
</cp:coreProperties>
</file>